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gif" ContentType="image/gif"/>
  <Override PartName="/ppt/media/image7.png" ContentType="image/png"/>
  <Override PartName="/ppt/media/image2.gif" ContentType="image/gif"/>
  <Override PartName="/ppt/media/HALLELU.WAV" ContentType="audio/x-wav"/>
  <Override PartName="/ppt/media/image14.gif" ContentType="image/gif"/>
  <Override PartName="/ppt/media/image3.png" ContentType="image/png"/>
  <Override PartName="/ppt/media/bikebell.wav" ContentType="audio/x-wav"/>
  <Override PartName="/ppt/media/verb.wav" ContentType="audio/x-wav"/>
  <Override PartName="/ppt/media/clap.wav" ContentType="audio/x-wav"/>
  <Override PartName="/ppt/media/image13.gif" ContentType="image/gif"/>
  <Override PartName="/ppt/media/alarmbuzzer.wav" ContentType="audio/x-wav"/>
  <Override PartName="/ppt/media/ballgame5.wav" ContentType="audio/x-wav"/>
  <Override PartName="/ppt/media/applause.wav" ContentType="audio/x-wav"/>
  <Override PartName="/ppt/media/image15.gif" ContentType="image/gif"/>
  <Override PartName="/ppt/media/image11.gif" ContentType="image/gif"/>
  <Override PartName="/ppt/media/image6.gif" ContentType="image/gif"/>
  <Override PartName="/ppt/media/image9.gif" ContentType="image/gif"/>
  <Override PartName="/ppt/media/image8.gif" ContentType="image/gif"/>
  <Override PartName="/ppt/media/runningeffect.wav" ContentType="audio/x-wav"/>
  <Override PartName="/ppt/media/image1.gif" ContentType="image/gif"/>
  <Override PartName="/ppt/media/COUGH2.WAV" ContentType="audio/x-wav"/>
  <Override PartName="/ppt/media/image10.gif" ContentType="image/gif"/>
  <Override PartName="/ppt/media/image5.gif" ContentType="image/gif"/>
  <Override PartName="/ppt/media/image12.gif" ContentType="image/gif"/>
  <Override PartName="/ppt/media/gul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962-3C39-48E6-AF7D-D1D82D20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B1C-AFA8-466A-8D93-A420684A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12C-557C-4B5A-BD25-321339AD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D2D-3555-4C73-87B5-E1DC44D9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E0F6-8E54-4218-92C9-AC8C7E31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EDE6-1BB5-4572-9386-5E34D22F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06D0-8792-4FC4-8531-DA19CD74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34EE-499D-463C-AEEA-48370C0F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69F7-0115-4DF4-A27E-9DFD3A1B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C271-836D-4E59-86AF-AD111A7C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121E-0853-464F-94CF-2C3FDA9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4F3-7F69-4717-96FC-F9C6D33F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C1FA-378A-40E8-8805-97C3719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9359-81CD-4123-9176-EFA0542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85DE-A3FE-4064-8A23-DA4B404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76D6-F371-4AB6-A3AC-4A37D5BB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221F-B651-414C-BEDA-DF0EA2FB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DDD-A5E7-4E1D-801D-7E98280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C98-8F0E-452B-9BDD-2A502F6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836-B62E-40F8-9EA0-BE441737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EB1-1B8B-4202-8DF1-611415FB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00D-F964-48DD-BF2C-67057CA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9E7-989E-4DDD-AE59-67B8E6E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ACA-0EF1-4CCB-9BDB-A0C512AF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7DAD-A916-4DB1-B3D7-2E75401F22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78A-6836-4E17-9689-3AF7C043D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9981-3088-42C4-B90E-496E698E4A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D2D1-1E4A-4956-A007-C34B9A976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verb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ballgame5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UGH2.WAV"/><Relationship Id="rId2" Type="http://schemas.openxmlformats.org/officeDocument/2006/relationships/audio" Target="../media/runningeffect.wav"/><Relationship Id="rId3" Type="http://schemas.openxmlformats.org/officeDocument/2006/relationships/audio" Target="../media/gulp.wav"/><Relationship Id="rId4" Type="http://schemas.openxmlformats.org/officeDocument/2006/relationships/audio" Target="../media/clap.wav"/><Relationship Id="rId5" Type="http://schemas.openxmlformats.org/officeDocument/2006/relationships/audio" Target="../media/alarmbuzzer.wav"/><Relationship Id="rId6" Type="http://schemas.openxmlformats.org/officeDocument/2006/relationships/audio" Target="../media/bikebell.wav"/><Relationship Id="rId7" Type="http://schemas.openxmlformats.org/officeDocument/2006/relationships/audio" Target="../media/HALLELU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17040" cy="14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Comic Sans MS"/>
              </a:rPr>
              <a:t>Verbs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0880" y="5943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By Mrs. C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C:\Documents and Settings\Melissa  Caro\Application Data\Microsoft\Media Catalog\Downloaded Clips\cl0\AG00290_.gif"/>
          <p:cNvPicPr/>
          <p:nvPr/>
        </p:nvPicPr>
        <p:blipFill>
          <a:blip r:embed="rId1"/>
          <a:stretch/>
        </p:blipFill>
        <p:spPr>
          <a:xfrm>
            <a:off x="762120" y="3200400"/>
            <a:ext cx="34290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er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Melissa  Caro\Application Data\Microsoft\Media Catalog\Downloaded Clips\cl45\j0174017.gif"/>
          <p:cNvPicPr/>
          <p:nvPr/>
        </p:nvPicPr>
        <p:blipFill>
          <a:blip r:embed="rId1"/>
          <a:stretch/>
        </p:blipFill>
        <p:spPr>
          <a:xfrm>
            <a:off x="1143000" y="2590920"/>
            <a:ext cx="2892600" cy="3504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75248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rs. Smith arrives 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629400" y="342900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495680" y="2209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rs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0384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Mrs. Smith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295280" y="4572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91440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rriv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Mrs. Smit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7177E69A.WAV" descr=""/>
          <p:cNvPicPr/>
          <p:nvPr/>
        </p:nvPicPr>
        <p:blipFill>
          <a:blip r:embed="rId2"/>
          <a:stretch/>
        </p:blipFill>
        <p:spPr>
          <a:xfrm>
            <a:off x="11430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0" name="Line 11"/>
          <p:cNvSpPr/>
          <p:nvPr/>
        </p:nvSpPr>
        <p:spPr>
          <a:xfrm>
            <a:off x="1828800" y="2057400"/>
            <a:ext cx="1600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12"/>
          <p:cNvSpPr/>
          <p:nvPr/>
        </p:nvSpPr>
        <p:spPr>
          <a:xfrm>
            <a:off x="3505320" y="2057400"/>
            <a:ext cx="914400" cy="763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Melissa  Caro\Application Data\Microsoft\Media Catalog\Downloaded Clips\cl71\j0283809.gif"/>
          <p:cNvPicPr/>
          <p:nvPr/>
        </p:nvPicPr>
        <p:blipFill>
          <a:blip r:embed="rId1"/>
          <a:stretch/>
        </p:blipFill>
        <p:spPr>
          <a:xfrm>
            <a:off x="5638680" y="2514600"/>
            <a:ext cx="2971800" cy="2838600"/>
          </a:xfrm>
          <a:prstGeom prst="rect">
            <a:avLst/>
          </a:prstGeom>
          <a:ln w="0">
            <a:noFill/>
          </a:ln>
        </p:spPr>
      </p:pic>
      <p:pic>
        <p:nvPicPr>
          <p:cNvPr id="213" name="SN00694_.mid" descr=""/>
          <p:cNvPicPr/>
          <p:nvPr/>
        </p:nvPicPr>
        <p:blipFill>
          <a:blip r:embed="rId2"/>
          <a:stretch/>
        </p:blipFill>
        <p:spPr>
          <a:xfrm>
            <a:off x="84582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114300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tars shine brightly a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895480" y="335268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8098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990720" y="2895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stars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9907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shine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stars are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1219320" y="205740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2133720" y="2057400"/>
            <a:ext cx="761760" cy="763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Program Files\Microsoft Office\Clipart\Pub60Cor\AG00174_.GIF"/>
          <p:cNvPicPr/>
          <p:nvPr/>
        </p:nvPicPr>
        <p:blipFill>
          <a:blip r:embed="rId1"/>
          <a:stretch/>
        </p:blipFill>
        <p:spPr>
          <a:xfrm>
            <a:off x="144792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23" name="7768196D.WAV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429000" y="16002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ime flies when you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 having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705720" y="358128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1722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4956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ime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121932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fli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ime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3581280" y="1981080"/>
            <a:ext cx="609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4"/>
          <p:cNvSpPr/>
          <p:nvPr/>
        </p:nvSpPr>
        <p:spPr>
          <a:xfrm>
            <a:off x="4267080" y="1981080"/>
            <a:ext cx="623880" cy="139680"/>
          </a:xfrm>
          <a:custGeom>
            <a:avLst/>
            <a:gdLst>
              <a:gd name="textAreaLeft" fmla="*/ 0 w 623880"/>
              <a:gd name="textAreaRight" fmla="*/ 624240 w 6238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Program Files\Microsoft Office\Clipart\Pub60Cor\BD19563_.GIF"/>
          <p:cNvPicPr/>
          <p:nvPr/>
        </p:nvPicPr>
        <p:blipFill>
          <a:blip r:embed="rId1"/>
          <a:stretch/>
        </p:blipFill>
        <p:spPr>
          <a:xfrm>
            <a:off x="5977080" y="304920"/>
            <a:ext cx="2808000" cy="4190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838080" y="19051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mmy plays baseball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5053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505320" y="2438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om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990720" y="3429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ommy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99072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play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ommy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9"/>
          <p:cNvSpPr/>
          <p:nvPr/>
        </p:nvSpPr>
        <p:spPr>
          <a:xfrm>
            <a:off x="2133720" y="2286000"/>
            <a:ext cx="672840" cy="165240"/>
          </a:xfrm>
          <a:custGeom>
            <a:avLst/>
            <a:gdLst>
              <a:gd name="textAreaLeft" fmla="*/ 0 w 672840"/>
              <a:gd name="textAreaRight" fmla="*/ 673200 w 67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llgame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Melissa  Caro\Application Data\Microsoft\Media Catalog\Downloaded Clips\cl71\j0283640.gif"/>
          <p:cNvPicPr/>
          <p:nvPr/>
        </p:nvPicPr>
        <p:blipFill>
          <a:blip r:embed="rId1"/>
          <a:stretch/>
        </p:blipFill>
        <p:spPr>
          <a:xfrm>
            <a:off x="1219320" y="228600"/>
            <a:ext cx="3504960" cy="3363840"/>
          </a:xfrm>
          <a:prstGeom prst="rect">
            <a:avLst/>
          </a:prstGeom>
          <a:ln w="0">
            <a:noFill/>
          </a:ln>
        </p:spPr>
      </p:pic>
      <p:pic>
        <p:nvPicPr>
          <p:cNvPr id="242" name="502F694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4191120" y="1828800"/>
            <a:ext cx="533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Jacob beats on his drum all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553080" y="419112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781680" y="2438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Jacob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1911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eat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Jacob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4267080" y="2209680"/>
            <a:ext cx="838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12"/>
          <p:cNvSpPr/>
          <p:nvPr/>
        </p:nvSpPr>
        <p:spPr>
          <a:xfrm>
            <a:off x="5257800" y="2209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Program Files\Microsoft Office\Clipart\Pub60Cor\AG00142_.gif"/>
          <p:cNvPicPr/>
          <p:nvPr/>
        </p:nvPicPr>
        <p:blipFill>
          <a:blip r:embed="rId1"/>
          <a:stretch/>
        </p:blipFill>
        <p:spPr>
          <a:xfrm>
            <a:off x="6280200" y="2133720"/>
            <a:ext cx="2863800" cy="3581280"/>
          </a:xfrm>
          <a:prstGeom prst="rect">
            <a:avLst/>
          </a:prstGeom>
          <a:ln w="0">
            <a:noFill/>
          </a:ln>
        </p:spPr>
      </p:pic>
      <p:pic>
        <p:nvPicPr>
          <p:cNvPr id="252" name="2AEC7175.WAV" descr=""/>
          <p:cNvPicPr/>
          <p:nvPr/>
        </p:nvPicPr>
        <p:blipFill>
          <a:blip r:embed="rId2"/>
          <a:stretch/>
        </p:blipFill>
        <p:spPr>
          <a:xfrm>
            <a:off x="81532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1676520" y="16765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bumble bee buzzes near the fl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038480" y="388620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z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4956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106668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he bee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066680" y="4572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914400" y="5638680"/>
            <a:ext cx="822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cc0000"/>
                </a:solidFill>
                <a:latin typeface="Comic Sans MS"/>
              </a:rPr>
              <a:t>buzzes</a:t>
            </a:r>
            <a:r>
              <a:rPr b="1" lang="en-US" sz="23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3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300" spc="-1" strike="noStrike">
                <a:solidFill>
                  <a:srgbClr val="003366"/>
                </a:solidFill>
                <a:latin typeface="Comic Sans MS"/>
              </a:rPr>
              <a:t>s what the bee is doing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3581280" y="2057400"/>
            <a:ext cx="457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2"/>
          <p:cNvSpPr/>
          <p:nvPr/>
        </p:nvSpPr>
        <p:spPr>
          <a:xfrm>
            <a:off x="4191120" y="2057400"/>
            <a:ext cx="914400" cy="763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Melissa  Caro\Application Data\Microsoft\Media Catalog\Downloaded Clips\cl0\AG00290_.gif"/>
          <p:cNvPicPr/>
          <p:nvPr/>
        </p:nvPicPr>
        <p:blipFill>
          <a:blip r:embed="rId1"/>
          <a:stretch/>
        </p:blipFill>
        <p:spPr>
          <a:xfrm>
            <a:off x="2666880" y="1523880"/>
            <a:ext cx="4343400" cy="3521160"/>
          </a:xfrm>
          <a:prstGeom prst="rect">
            <a:avLst/>
          </a:prstGeom>
          <a:ln w="0">
            <a:noFill/>
          </a:ln>
        </p:spPr>
      </p:pic>
      <p:sp>
        <p:nvSpPr>
          <p:cNvPr id="262" name="WordArt 3"/>
          <p:cNvSpPr txBox="1"/>
          <p:nvPr/>
        </p:nvSpPr>
        <p:spPr>
          <a:xfrm>
            <a:off x="1905120" y="533520"/>
            <a:ext cx="5867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G r e a t  J o b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295280" y="4648320"/>
            <a:ext cx="7391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Now, you're a verb EXPERT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4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VERB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A verb shows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There</a:t>
            </a:r>
            <a:r>
              <a:rPr b="1" lang="ja-JP" sz="2400" spc="-1" strike="noStrike">
                <a:solidFill>
                  <a:srgbClr val="3366cc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 no doub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It tells what the subject do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Like sing and sh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Action verbs are fun to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Now it</a:t>
            </a:r>
            <a:r>
              <a:rPr b="1" lang="ja-JP" sz="2400" spc="-1" strike="noStrike">
                <a:solidFill>
                  <a:srgbClr val="3366cc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 time to name a f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o clap your hands and join our rhy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ay those verbs in recor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Wiggle, Jiggle, Turn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Raise your arms and stomp the grou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Shake your finger and wink your e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Wave those action verbs GOOD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057400" y="1523880"/>
            <a:ext cx="3048120" cy="916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ugh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352680" y="2666880"/>
            <a:ext cx="3581640" cy="916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wallow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286000" y="3809880"/>
            <a:ext cx="236232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wa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181480" y="5105520"/>
            <a:ext cx="1371600" cy="916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819520" y="5105520"/>
            <a:ext cx="1447560" cy="91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477120" y="3809880"/>
            <a:ext cx="175248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99072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These are Action Verb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095880" y="1447920"/>
            <a:ext cx="2286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UG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nningeff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ke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LLEL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o find the verb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676520" y="1676520"/>
            <a:ext cx="5105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cate 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Then ask yourself, </a:t>
            </a:r>
            <a:r>
              <a:rPr b="1" lang="ja-JP" sz="2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it doing?</a:t>
            </a:r>
            <a:r>
              <a:rPr b="1" lang="ja-JP" sz="2000" spc="-1" strike="noStrike">
                <a:solidFill>
                  <a:srgbClr val="0066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514600" y="29718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dog bar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010280" y="480060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Documents and Settings\Melissa  Caro\Application Data\Microsoft\Media Catalog\Downloaded Clips\cl4a\j0185571.gif"/>
          <p:cNvPicPr/>
          <p:nvPr/>
        </p:nvPicPr>
        <p:blipFill>
          <a:blip r:embed="rId1"/>
          <a:stretch/>
        </p:blipFill>
        <p:spPr>
          <a:xfrm>
            <a:off x="990720" y="2971800"/>
            <a:ext cx="3276360" cy="2754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18148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648320" y="4343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dog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593BC2D1.WAV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1371600" y="5715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The verb is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arked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8000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 what the dog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3898800" y="3340080"/>
            <a:ext cx="1068480" cy="15228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Melissa  Caro\Application Data\Microsoft\Media Catalog\Downloaded Clips\cl0\AG00198_.gif"/>
          <p:cNvPicPr/>
          <p:nvPr/>
        </p:nvPicPr>
        <p:blipFill>
          <a:blip r:embed="rId1"/>
          <a:stretch/>
        </p:blipFill>
        <p:spPr>
          <a:xfrm>
            <a:off x="5867280" y="304920"/>
            <a:ext cx="2870280" cy="242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514600" y="29718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big lion roared lou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010280" y="480060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o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18148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267080" y="4343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lion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38080" y="6858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FC6DAB3E.WAV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1371600" y="5715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roare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lion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3733920" y="3352680"/>
            <a:ext cx="6094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3"/>
          <p:cNvSpPr/>
          <p:nvPr/>
        </p:nvSpPr>
        <p:spPr>
          <a:xfrm>
            <a:off x="4495680" y="3352680"/>
            <a:ext cx="749520" cy="165240"/>
          </a:xfrm>
          <a:custGeom>
            <a:avLst/>
            <a:gdLst>
              <a:gd name="textAreaLeft" fmla="*/ 0 w 749520"/>
              <a:gd name="textAreaRight" fmla="*/ 749880 w 7495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Program Files\Microsoft Office\Clipart\Pub60Cor\PH01255G.gif"/>
          <p:cNvPicPr/>
          <p:nvPr/>
        </p:nvPicPr>
        <p:blipFill>
          <a:blip r:embed="rId1"/>
          <a:stretch/>
        </p:blipFill>
        <p:spPr>
          <a:xfrm>
            <a:off x="1143000" y="3581280"/>
            <a:ext cx="74674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447920" y="198108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lighthouse shines brigh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400800" y="3505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03848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ight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581280" y="30481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the lighthouse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990720" y="6172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shin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lighthouse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0E69C763.WAV" descr=""/>
          <p:cNvPicPr/>
          <p:nvPr/>
        </p:nvPicPr>
        <p:blipFill>
          <a:blip r:embed="rId2"/>
          <a:stretch/>
        </p:blipFill>
        <p:spPr>
          <a:xfrm>
            <a:off x="8077320" y="5105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9907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209680" y="2362320"/>
            <a:ext cx="14479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2"/>
          <p:cNvSpPr/>
          <p:nvPr/>
        </p:nvSpPr>
        <p:spPr>
          <a:xfrm>
            <a:off x="3733920" y="2362320"/>
            <a:ext cx="1068120" cy="15228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Program Files\Microsoft Office\Clipart\Pub60Cor\AG00158_.gif"/>
          <p:cNvPicPr/>
          <p:nvPr/>
        </p:nvPicPr>
        <p:blipFill>
          <a:blip r:embed="rId1"/>
          <a:stretch/>
        </p:blipFill>
        <p:spPr>
          <a:xfrm>
            <a:off x="1371600" y="304920"/>
            <a:ext cx="2392200" cy="3886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900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snowman waves his hat to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629400" y="342900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0958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now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0384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id the snowman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27672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wav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the snowman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D14491_.mid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0" name="Line 12"/>
          <p:cNvSpPr/>
          <p:nvPr/>
        </p:nvSpPr>
        <p:spPr>
          <a:xfrm>
            <a:off x="4191120" y="2057400"/>
            <a:ext cx="13716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5715000" y="20574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Melissa  Caro\Application Data\Microsoft\Media Catalog\Downloaded Clips\cl92\j0365300.gif"/>
          <p:cNvPicPr/>
          <p:nvPr/>
        </p:nvPicPr>
        <p:blipFill>
          <a:blip r:embed="rId1"/>
          <a:stretch/>
        </p:blipFill>
        <p:spPr>
          <a:xfrm>
            <a:off x="990720" y="2514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j0388353.wav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05120" y="1523880"/>
            <a:ext cx="533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lexander takes his b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6294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5680" y="2057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lex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0384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Alexander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1430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91440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tak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Alexander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1981080" y="1905120"/>
            <a:ext cx="14479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12"/>
          <p:cNvSpPr/>
          <p:nvPr/>
        </p:nvSpPr>
        <p:spPr>
          <a:xfrm>
            <a:off x="3581280" y="19051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Melissa  Caro\Application Data\Microsoft\Media Catalog\Downloaded Clips\cl86\j0336994.gif"/>
          <p:cNvPicPr/>
          <p:nvPr/>
        </p:nvPicPr>
        <p:blipFill>
          <a:blip r:embed="rId1"/>
          <a:stretch/>
        </p:blipFill>
        <p:spPr>
          <a:xfrm>
            <a:off x="5546880" y="0"/>
            <a:ext cx="3597120" cy="3597120"/>
          </a:xfrm>
          <a:prstGeom prst="rect">
            <a:avLst/>
          </a:prstGeom>
          <a:ln w="0">
            <a:noFill/>
          </a:ln>
        </p:spPr>
      </p:pic>
      <p:pic>
        <p:nvPicPr>
          <p:cNvPr id="193" name="BD14480_.mid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838080" y="20574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ally dances in the rec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334120" y="41911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3526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623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at does Sally do?</a:t>
            </a:r>
            <a:r>
              <a:rPr b="1" lang="ja-JP" sz="24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4400" y="4572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t</a:t>
            </a: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 Practi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9144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e verb is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ances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 it</a:t>
            </a:r>
            <a:r>
              <a:rPr b="1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s what Sally is d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914400" y="2438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1752480" y="2438280"/>
            <a:ext cx="1068480" cy="15264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673" h="96">
                <a:moveTo>
                  <a:pt x="0" y="72"/>
                </a:moveTo>
                <a:cubicBezTo>
                  <a:pt x="23" y="49"/>
                  <a:pt x="60" y="9"/>
                  <a:pt x="88" y="0"/>
                </a:cubicBezTo>
                <a:cubicBezTo>
                  <a:pt x="101" y="39"/>
                  <a:pt x="113" y="67"/>
                  <a:pt x="152" y="80"/>
                </a:cubicBezTo>
                <a:cubicBezTo>
                  <a:pt x="173" y="16"/>
                  <a:pt x="141" y="91"/>
                  <a:pt x="184" y="48"/>
                </a:cubicBezTo>
                <a:cubicBezTo>
                  <a:pt x="190" y="42"/>
                  <a:pt x="187" y="31"/>
                  <a:pt x="192" y="24"/>
                </a:cubicBezTo>
                <a:cubicBezTo>
                  <a:pt x="198" y="16"/>
                  <a:pt x="208" y="13"/>
                  <a:pt x="216" y="8"/>
                </a:cubicBezTo>
                <a:cubicBezTo>
                  <a:pt x="224" y="16"/>
                  <a:pt x="235" y="22"/>
                  <a:pt x="240" y="32"/>
                </a:cubicBezTo>
                <a:cubicBezTo>
                  <a:pt x="248" y="47"/>
                  <a:pt x="256" y="80"/>
                  <a:pt x="256" y="80"/>
                </a:cubicBezTo>
                <a:cubicBezTo>
                  <a:pt x="280" y="64"/>
                  <a:pt x="283" y="67"/>
                  <a:pt x="296" y="40"/>
                </a:cubicBezTo>
                <a:cubicBezTo>
                  <a:pt x="300" y="32"/>
                  <a:pt x="298" y="22"/>
                  <a:pt x="304" y="16"/>
                </a:cubicBezTo>
                <a:cubicBezTo>
                  <a:pt x="310" y="10"/>
                  <a:pt x="320" y="11"/>
                  <a:pt x="328" y="8"/>
                </a:cubicBezTo>
                <a:cubicBezTo>
                  <a:pt x="363" y="31"/>
                  <a:pt x="382" y="65"/>
                  <a:pt x="416" y="88"/>
                </a:cubicBezTo>
                <a:cubicBezTo>
                  <a:pt x="429" y="48"/>
                  <a:pt x="430" y="22"/>
                  <a:pt x="472" y="8"/>
                </a:cubicBezTo>
                <a:cubicBezTo>
                  <a:pt x="507" y="43"/>
                  <a:pt x="509" y="61"/>
                  <a:pt x="560" y="48"/>
                </a:cubicBezTo>
                <a:cubicBezTo>
                  <a:pt x="604" y="18"/>
                  <a:pt x="605" y="35"/>
                  <a:pt x="640" y="64"/>
                </a:cubicBezTo>
                <a:cubicBezTo>
                  <a:pt x="673" y="92"/>
                  <a:pt x="657" y="66"/>
                  <a:pt x="672" y="96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9:02:25Z</dcterms:created>
  <dc:creator>Melissa Caro</dc:creator>
  <dc:description/>
  <dc:language>en-US</dc:language>
  <cp:lastModifiedBy>teacher</cp:lastModifiedBy>
  <dcterms:modified xsi:type="dcterms:W3CDTF">2013-11-19T04:03:51Z</dcterms:modified>
  <cp:revision>28</cp:revision>
  <dc:subject/>
  <dc:title>PowerPoint Presentation</dc:title>
</cp:coreProperties>
</file>